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A3%D9%85%D9%8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0C5-C73C-44B2-9E14-230608F7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8F2-8E0F-4557-8B16-3ACB93F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607-B2B1-45EC-A827-D9F802C5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8CE-2BEF-417A-85C5-CA5A2060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0D3-864C-4996-AA9F-5966142E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E67-0248-4F4D-9AA2-D39555B9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876-369B-4679-81DA-02A30168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906-913C-4E17-B0FA-A01C0A5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339-79EC-4F9B-8561-E5CF595A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7AE-8CB9-4B18-8104-13D36B0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160-3D24-4BFC-88AC-92303A5C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AF1-6963-48AB-B84A-A4AEC6EF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2543-403E-46BA-B971-6285BF2ADB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71;&#1605;&#1610;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كان لأمي عين واحدة... وقد كرهتها... لأنها كانت تسبب لي الإحراج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5320" y="5105520"/>
            <a:ext cx="58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mom only had one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hated her... she was such an embarrass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لم أكن متردداً فيما قلت ولم أفكر بكلامي لأني كنت غاضباً جدا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.</a:t>
            </a: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didn't even stop to think for a second about what I had said, because I was full of ange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ffff"/>
                </a:solidFill>
                <a:latin typeface="Arial"/>
              </a:rPr>
              <a:t>ولم أبالي لمشاعرها 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was oblivious to her feeling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760" y="1371600"/>
            <a:ext cx="82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ff"/>
                </a:solidFill>
                <a:latin typeface="Arial"/>
              </a:rPr>
              <a:t>وأردت مغادرة المكان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962520"/>
            <a:ext cx="556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nted out of that hous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درست بجد وحصلتُ على منحة للدراسة في سنغافور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7040" y="480060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So I studied real hard, got a chance to go to Singapore to stud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علاً.. ذهبت .. ودرست .. ثم تزوجت .. واشتريت بيتاً .. وأنجبت أولاداً وكنت سعيداً ومرتاحاً في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, I got married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bought a house of my own.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had kids of my own. I was happy with my  lif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وفي يوم من الأيام ..أتت أمي لزيارتي ولم تكن قد رأتني منذ سنوات ولم ترى أحفادها أبدا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one day, my mother came to visit me. She hadn't seen me in years and she didn't even meet her grandchildr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!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قفت على الباب وأخذ أولادي يضحكون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9000" y="4876920"/>
            <a:ext cx="70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When she stood by the door, my children laughed at her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صرخت: كيف تجرأتِ وأتيت لتخيفي اطفالي؟.. </a:t>
            </a: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اخرجي حالا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622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screamed at her, "How dare you come to my house and scare my children!"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T OUT OF HERE! NO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cc00"/>
                </a:solidFill>
                <a:latin typeface="Arial"/>
              </a:rPr>
              <a:t>أجابت بهدوء: (آسفة .. أخطأتٌ العنوان على ما يبدو).. واختفت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And to this, my mother quietly answered, "Oh, I'm so sorry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may have gotten the wrong address," and she disappeared out of sigh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وذات يوم وصلتني رسالة من المدرسة تدعوني لجمع الشمل العائ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day, a letter regarding a school reunion came to my hou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كانت تعمل طاهية في المدرسة التي أتعلم فيها لتعيل العائل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he cooked for students &amp; teachers to support the family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فكذبت على زوجتي وأخبرتها أنني سأذهب في رحلة عمل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95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 I lied to my wife that I was going on a business tri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بعد الاجتماع ذهبت الى البيت القديم الذي كنا نعيش فيه, للفضول فقط!!!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fter the reunion, I went to the old shack just out of curiosity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!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3300"/>
                </a:solidFill>
                <a:latin typeface="Arial"/>
              </a:rPr>
              <a:t>أخبرني الجيران أن أمي.... توف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2670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y neighbors said that she died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لم أذرف ولو دمعة واحد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did not shed a single tea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!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قاموا بتسليمي رسالة من أمي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148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They handed me a letter that she had wanted me to have</a:t>
            </a:r>
            <a:r>
              <a:rPr b="1" lang="en-US" sz="2000" spc="-1" strike="noStrike">
                <a:solidFill>
                  <a:srgbClr val="7f5ec2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ابني الحبيب.. لطالما فكرت ب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dearest son, I think of you all the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آسفة لمجيئي إلى سنغافورة وإخافة أولاد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'm sorry that I came to Singapore and scared your children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66"/>
                </a:solidFill>
                <a:latin typeface="Arial"/>
              </a:rPr>
              <a:t>كنت سعيدة جداً عندما سمعتُ أنك سوف تأتي للاجتما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was so glad when I heard you were coming for the reunio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19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ff"/>
                </a:solidFill>
                <a:latin typeface="Arial"/>
              </a:rPr>
              <a:t>ولكني قد لا أستطيع مغادرة السرير لرؤيت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But I may not be able to even get out of bed to see you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7f5ec2"/>
                </a:solidFill>
                <a:latin typeface="Arial"/>
              </a:rPr>
              <a:t>آسفة لأنني سببت لك الإحراج مراتٍ ومرات في حياتك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560" y="4267080"/>
            <a:ext cx="90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I'm sorry that I was a constant embarrassment to you when you were growing up</a:t>
            </a:r>
            <a:r>
              <a:rPr b="1" lang="en-US" sz="1800" spc="-1" strike="noStrike">
                <a:solidFill>
                  <a:srgbClr val="7f5ec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ff"/>
                </a:solidFill>
                <a:latin typeface="Arial"/>
              </a:rPr>
              <a:t>ذات يوم...في المرحلة الابتدائية  جاءت لتطمئن عَل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as this one day during elementary school where my mom came to say hello to 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ff00"/>
                </a:solidFill>
                <a:latin typeface="Arial"/>
              </a:rPr>
              <a:t>هل تعلم... لقد تعرضتَ لحادثٍ عندما كنت صغيراً وقد فقدتَ عين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191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ou see........when you were very little, you got into an accident, and lost your ey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99cc00"/>
                </a:solidFill>
                <a:latin typeface="Arial"/>
              </a:rPr>
              <a:t>وكأي أم, لم استطع أن أتركك تكبر بعينٍ واحدةٍ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s a mother, I couldn't stand watching you having to grow up with one ey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ولِذا... أعطيتكَ عيني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… I gave you min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cdad37"/>
                </a:solidFill>
                <a:latin typeface="Arial"/>
              </a:rPr>
              <a:t>وكنتُ سعيدة وفخورة جداً لأن ابني يستطيع رؤية العالم بعين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I was so proud of my son who was seeing a whole new world for me, in my place, with that eye</a:t>
            </a:r>
            <a:r>
              <a:rPr b="1" lang="en-US" sz="2000" spc="-1" strike="noStrike">
                <a:solidFill>
                  <a:srgbClr val="cdad37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00"/>
                </a:solidFill>
                <a:latin typeface="Arial"/>
              </a:rPr>
              <a:t>.....مع حبي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th my love to you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000" spc="-1" strike="noStrike">
                <a:solidFill>
                  <a:srgbClr val="ff0066"/>
                </a:solidFill>
                <a:latin typeface="Arial"/>
              </a:rPr>
              <a:t>.....أمــــــــــــك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Your mother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81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Arial"/>
              </a:rPr>
              <a:t>سبحان  الله: إذا كانت هذه رحمة الأم بولدها فكيف برحمة الله سبحانه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ول رسول الله صلى الله عليه وسلم في الحدي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عن أبي هريرة رضي الله عنه عن النبي صلى الله عليه وسلم أنه ق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0000"/>
                </a:solidFill>
                <a:latin typeface="Times New Roman"/>
                <a:ea typeface="Diwani Bent"/>
              </a:rPr>
              <a:t>( إن لله مئة رحمة قسم منها رحمة بين جميع الخلائق بها يتراحمون و بها يتعاطفون و بها تعطف الوحش على أولادها وأخر تسعة وتسعين رحمة يرحم بها عباده يوم القيامة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22160"/>
            <a:ext cx="9144000" cy="84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يقول أيضا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  <a:ea typeface="Diwani Letter"/>
              </a:rPr>
              <a:t> </a:t>
            </a:r>
            <a:r>
              <a:rPr b="0" lang="ar-SY" sz="4800" spc="-1" strike="noStrike">
                <a:solidFill>
                  <a:srgbClr val="000000"/>
                </a:solidFill>
                <a:latin typeface="Arial"/>
                <a:ea typeface="Diwani Letter"/>
              </a:rPr>
              <a:t>( عن عمر بن الخطاب أنه قدم على رسول الله صلى الله عليه وسلم  بسبي فإذا امرأةٌ من السبي تبتغي إذا وجدت صبياً في السبي أخذته فألصقته ببطنها وأرضعته فقال لنا: أترون هذه المرأة طارحةً ولدها في النار؟ قلنا: لا والله – وهي تقدر أن لا تطرحه فقا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Arial"/>
                <a:cs typeface="Diwani Letter"/>
              </a:rPr>
              <a:t>الله أرحم بعباده من هذه بولدها )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8580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mar Ebnulkhatab said: 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Once upon a time while we had some captives we saw captive a woman taking babies, held them tight and breast fed them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asked us: Do you think this woman will throw his baby in fire? We said: No if she has the choice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n He said: 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Allah is more merciful to his worshiper than her with her sun</a:t>
            </a:r>
            <a:r>
              <a:rPr b="1" lang="en-US" sz="4000" spc="-1" strike="noStrike">
                <a:solidFill>
                  <a:srgbClr val="ff0000"/>
                </a:solidFill>
                <a:latin typeface="Baskerville Old Face"/>
                <a:ea typeface="Diwani Bent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وكما قال رسول الله صلى الله عليه وسلم عندما سُئ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يا رسول الله من أحق الناس بحسن صحابتي قال أمك قال ث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Arial"/>
                <a:cs typeface="Diwani Bent"/>
              </a:rPr>
              <a:t>من قال أمك قال ثم من قال أمك قال ثم من قال أب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صدق رسول الله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نحمد الله على نعمة الإسلام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ff"/>
                </a:solidFill>
                <a:latin typeface="Arial"/>
              </a:rPr>
              <a:t>أحسست بالإحراج فعلاً ... كيف فعلت هذا بي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 was so embarrassed.</a:t>
            </a:r>
            <a:br>
              <a:rPr sz="2000"/>
            </a:b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How could she do this to m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?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9528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The prophet (sall-Allahu alayhi wassallam) Told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Arial Unicode MS"/>
              </a:rPr>
              <a:t>us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Diwani Bent"/>
              </a:rPr>
              <a:t> that we must obey Allah and His messenger at all times but after that Comes your mother then your mother then Your mother then your f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iwani B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520" y="6172200"/>
            <a:ext cx="61722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 Allah we are Muslim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cc00"/>
                </a:solidFill>
                <a:latin typeface="Arial"/>
              </a:rPr>
              <a:t>تجاهلتها, ورميتها بنظرة مليئة بالكر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I ignored her, threw her a hateful look and ran out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وفي اليوم التالي قال أحد التلامذة ... أمك  </a:t>
            </a:r>
            <a:br>
              <a:rPr sz="4400"/>
            </a:br>
            <a:r>
              <a:rPr b="1" lang="ar-SY" sz="4400" spc="-1" strike="noStrike">
                <a:solidFill>
                  <a:srgbClr val="ff0000"/>
                </a:solidFill>
                <a:latin typeface="Arial"/>
              </a:rPr>
              <a:t>بعين واحده ... أوووو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419720"/>
            <a:ext cx="891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next day at school one of my classmates said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EEEE, your mom only has one ey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حينها تمنيت أن أدفن نفسي </a:t>
            </a:r>
            <a:br>
              <a:rPr sz="4400"/>
            </a:br>
            <a:r>
              <a:rPr b="1" lang="ar-SY" sz="4400" spc="-1" strike="noStrike">
                <a:solidFill>
                  <a:srgbClr val="bbe0e3"/>
                </a:solidFill>
                <a:latin typeface="Arial"/>
              </a:rPr>
              <a:t>وأن تختفي امي من حيات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wanted to bury myself.</a:t>
            </a:r>
            <a:br>
              <a:rPr sz="2000"/>
            </a:b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 also wanted my mom to just disappear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في اليوم التالي واجهتها :</a:t>
            </a:r>
            <a:br>
              <a:rPr sz="4400"/>
            </a:br>
            <a:r>
              <a:rPr b="1" lang="ar-SY" sz="4400" spc="-1" strike="noStrike">
                <a:solidFill>
                  <a:srgbClr val="66ff33"/>
                </a:solidFill>
                <a:latin typeface="Arial"/>
              </a:rPr>
              <a:t>لقد جعلتِ مني أضحوكة, لِم لا تموتين ؟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197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o I confronted her that day and said, " If you're only gonna make me a laughing stock, why don't you just die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?!!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28800" y="1219320"/>
            <a:ext cx="50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6600" spc="-1" strike="noStrike">
                <a:solidFill>
                  <a:srgbClr val="99cc00"/>
                </a:solidFill>
                <a:latin typeface="Arial"/>
              </a:rPr>
              <a:t>ولكنها لم تُجب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y mom did not respo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9:08:13Z</dcterms:created>
  <dc:creator>mea</dc:creator>
  <dc:description/>
  <dc:language>en-US</dc:language>
  <cp:lastModifiedBy>building systems</cp:lastModifiedBy>
  <dcterms:modified xsi:type="dcterms:W3CDTF">2006-06-13T22:47:58Z</dcterms:modified>
  <cp:revision>20</cp:revision>
  <dc:subject/>
  <dc:title>My mom only had one eye.  I hated her... she was such an embarrassment. </dc:title>
</cp:coreProperties>
</file>